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85B-9D3B-4EBB-A226-E2B2871A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647-A882-4B7C-8F43-C31ADBE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FE5-1C90-47CF-AEFA-8330C09B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9C3-5E4B-4C67-9E57-B1DE0C11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391-C5A5-4F6B-A076-8FC322A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789-AD88-4433-B0F8-0BEA574B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648-6124-4539-B463-6C39AA2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F75-4090-4AD6-9FBE-395CECAC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B7F-5B5A-4469-B573-6EDF0F4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2A6-5C48-4991-94AE-9FB3387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9B9-E371-44F8-B074-79AFF4E3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7E0-1A48-4AC2-88F4-2664877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AE23-6675-4A2C-A4B2-2577B13A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Clase 702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30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TOMAR </a:t>
            </a:r>
            <a:r>
              <a:rPr b="1" lang="es-ES_tradnl" sz="3200" spc="-1" strike="noStrike" u="sng">
                <a:solidFill>
                  <a:srgbClr val="00b050"/>
                </a:solidFill>
                <a:uFillTx/>
                <a:latin typeface="Arial"/>
              </a:rPr>
              <a:t>QUIZ: REPAS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ropa llev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pa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miemb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atlantablackstar.com/wp-content/uploads/2013/05/will-smith-family.jpg"/>
          <p:cNvPicPr/>
          <p:nvPr/>
        </p:nvPicPr>
        <p:blipFill>
          <a:blip r:embed="rId1"/>
          <a:stretch/>
        </p:blipFill>
        <p:spPr>
          <a:xfrm>
            <a:off x="4530600" y="923760"/>
            <a:ext cx="438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encrypted-tbn1.gstatic.com/images?q=tbn:ANd9GcSOX3KFw13RLFCTTfAjvUhUApBIPI30xLrZ9hHolvMrmLgkL1dC"/>
          <p:cNvPicPr/>
          <p:nvPr/>
        </p:nvPicPr>
        <p:blipFill>
          <a:blip r:embed="rId1"/>
          <a:stretch/>
        </p:blipFill>
        <p:spPr>
          <a:xfrm>
            <a:off x="571680" y="0"/>
            <a:ext cx="210816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s://encrypted-tbn1.gstatic.com/images?q=tbn:ANd9GcSylOVBrYXEzBaPNslg5hU4cm8aGi7t9g6__v3HJs0cEkpTcDwU"/>
          <p:cNvPicPr/>
          <p:nvPr/>
        </p:nvPicPr>
        <p:blipFill>
          <a:blip r:embed="rId2"/>
          <a:stretch/>
        </p:blipFill>
        <p:spPr>
          <a:xfrm>
            <a:off x="6248520" y="0"/>
            <a:ext cx="207324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914400" y="380052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4"/>
          <a:stretch/>
        </p:blipFill>
        <p:spPr>
          <a:xfrm>
            <a:off x="6477120" y="3726000"/>
            <a:ext cx="2522520" cy="2522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696080" y="3657600"/>
            <a:ext cx="13384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206880" y="151776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094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01080" y="29718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83808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640080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3200400" y="3611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h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3276720" y="4602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3352680" y="55926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3124080" y="20574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2971800" y="41148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971800" y="5100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brother/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895480" y="6095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famili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ith-Pinke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ros pa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743200" y="160020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666880" y="2209680"/>
            <a:ext cx="2667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5181480" y="1828800"/>
            <a:ext cx="2438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abu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6400800" y="2286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981080" y="277344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133720" y="335268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3048120" y="300204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5105520" y="304812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ncles &amp; a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2514600" y="391644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2590920" y="45259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5181480" y="4221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7543800" y="4338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ou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3276720" y="51055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362320" y="5638680"/>
            <a:ext cx="3200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2438280" y="6248520"/>
            <a:ext cx="3505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5334120" y="582120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ni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467480" y="5867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a hoja aparte, inventa una familia y crea un árbol familiar de la familia. CREATIVIDAD POR FAVO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s 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ma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03:02Z</dcterms:created>
  <dc:creator>Helen Zumaeta</dc:creator>
  <dc:description/>
  <dc:language>en-US</dc:language>
  <cp:lastModifiedBy>Helen Zumaeta</cp:lastModifiedBy>
  <cp:lastPrinted>2014-09-30T15:05:46Z</cp:lastPrinted>
  <dcterms:modified xsi:type="dcterms:W3CDTF">2014-09-30T19:35:29Z</dcterms:modified>
  <cp:revision>18</cp:revision>
  <dc:subject/>
  <dc:title>Slide 1</dc:title>
</cp:coreProperties>
</file>